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7747-ED14-4FCC-8F41-E829F62D20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CED7-CBFD-44CB-82CE-1C6AEA58E3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4F94-AFF8-4E36-90C1-E482136B2D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E0A0-0A7F-478F-95AC-F8CE5F57EA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3AB3-3289-4540-8BC3-8B4EC761E4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25E3-1C08-4750-B306-3DC2980CAC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07DE-CBE4-4B58-A730-E7DE238D3B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4B71-B8F7-4D35-9C40-E98A3002F2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4145-655C-4577-A65D-C548204BD9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87B9-E4FB-4DDA-8E43-3D39344752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E06A-0FD0-4DDA-93A1-F4DEF529C3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B036-F563-4F09-A74D-5949A222C0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4607-B450-417B-A6E6-485CFE2AD5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D849-CE0F-4262-857D-42A109C36F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9302-6604-4EC7-BA2D-0EF9084F47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6B80-420E-4372-9D52-C224BC9249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94A4-6C2B-4FFA-8D26-30E10F397C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780F-C344-4337-B5C6-50AED82895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3262-EE6D-45D9-8B62-7E3274D028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028-6859-4A58-AD6B-F2AE7F2F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4FB-D946-4DA2-B2F6-CBE0716F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8B9-BF5F-4D12-9F29-E1921803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E85-1299-4F2D-ABB2-8BA4E8FE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DD99-D526-45D5-A5C8-F29FA9A6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31CD-1BEA-462C-9C31-3FFCCFF7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DA4B-88AD-4881-A915-B6885FCE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DEBF-B7DE-417B-B2DC-41398B02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568A-5C45-48DE-B824-E352DF76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B06F-5D40-4050-ADBA-5830532D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7019-CEE3-479A-9B05-73C60D73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5E10-D11C-4E05-A208-08AECA9E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6A8A-CA2F-4FAC-AD15-6F02A86B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7C93-6E9C-41D4-906C-770E90A3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90C8-6654-40A1-B2BB-083D7575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FAB9-85E3-4FAA-BFB5-E8803782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6C6E-491E-4189-B6AF-08B38B15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050A-E1AB-443F-A757-1E646C69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EA04-6D72-4981-BC17-DD6CF9F0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114E9-B7ED-492F-8E7B-C68C7985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2D828-D4F6-41F0-96B4-C5B62FCB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FA39-CE58-41D9-80B6-59053175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6C6-D7B8-4C51-8722-D12C98F0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49C5-16FB-4230-B670-A35A7C7C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31DD-F838-4EAE-AFC5-D3E624DF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CEF62-CFF5-4267-92CD-777D03A6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A06DB-BEA5-4751-915A-120E1455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8DE1D-0ACE-4DF4-BD39-FAAED752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2705-EB6D-4490-BBC6-204D1ED5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FEC0-5FE5-4390-979E-E6024EDB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4BC94-0A4B-4CA0-A4CC-32B62A13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58A58-1E48-4585-B695-60C2FC96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8F390-62A1-48AF-92E9-683CD62B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1E6-7377-47A0-BB92-65780FF2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B59C4-C767-428E-83B6-E4C44143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5E96E-5F51-42B9-965A-2BBA34A9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38AAD-8059-4F48-B160-5D845270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9A8B1-9952-413E-88DE-EE648478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56857-128B-4DA1-97FF-0E6F0F0E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88D94-5E3E-4253-B96A-6E251B7B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02F7E-EFA3-45EE-B695-76987AAA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971C0-B401-4ADA-BC10-38C964CA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D0E54-3E49-4FC9-8BAD-30278D63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99284-943D-46E3-88F2-9166C1E8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9AD-E864-4493-AFF5-CB506DE9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15490-F2D6-4832-9292-CDE9A1C7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F1BC5-F48C-47BE-9D2E-57041337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7D3ED-AAD7-4B10-B580-90016601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6D2F6-DA47-43CD-A7F2-52ECA525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6B7BA-B7BE-4896-A49B-DC1A1CF8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C8391-1133-45CF-A3A1-471D8D86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5674C-ED4A-4F18-8CF3-04C73C74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71241-7123-4C60-AE00-56F3C4FE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C45BA-F8E2-42EF-B252-2A27479F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3986D-1F83-4F2B-A4F1-5C6CC4E6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1266-3B8C-4E34-9D96-C5579042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18A6B-1BD9-4DFF-921B-B2FBFE45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82494-31CC-4781-AAC8-1EC9EEDD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188CF-44F5-4054-93E2-38973451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95BCD-63D3-4B15-A3B6-06969018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D8C02-E977-461F-8D78-CB42758C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3F224-8CBD-4D60-B66C-C27A0901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43B0F-6B94-4912-9440-D19C7AD7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C7559-B25B-4219-82A8-5D4178AD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E4AD4-D19B-4503-ABA4-88BB5675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DD970-579E-4244-9ED5-BF1430F2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552-6D70-427D-AD24-9FC30E32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899B0-F582-457B-9953-C8AA3A3D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134DA-12C3-4430-910C-115A332D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DAA68-AFC6-4E5B-B9EB-830ED7F1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6A26D-3F7F-475F-AD62-7DECA260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98544-FDBA-4BB3-BEB4-933BFFBC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1720B-EE02-43F2-9236-0840E5AB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79B17-3A0A-456F-97E2-0ACC926C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97104-5DE2-4F51-BF53-393680BD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4310D-17BE-483F-92B2-85CD4B13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0468C-72C5-4954-B86F-AC4174DA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B1D-17E5-454D-9D85-F498B2AB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F5FFA-89CA-499E-B70B-8FD318E6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04949-D26D-4B19-BB62-17A3E5B6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D66D2-8F2B-4DA8-A274-83F39D23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8F2ED-0EF2-4B9A-94CD-DF328044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CDE12-978A-43D4-A2A2-BF9C4A1B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4823D-2720-4BEC-B2A8-13A3A103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BEBD8-4B85-4E61-B8C3-E953E483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7C323-0598-4C97-B74C-A51162D7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616F9-E4BB-4CA0-9F11-66902987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F2DEB-771E-492B-95E4-122AA158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710-5CCF-4069-88D9-E139A44F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65727-2B9B-4510-80F9-30E737DF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EDFD0-A04B-4670-92E8-EA5ED38E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72B0B-3B31-405C-8404-3C3DA4BF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065EB-41D9-4037-AFAC-84AA3EAC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5BC72-C78A-4DFE-BB98-56EAEDDE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A1E2D-CB42-4318-80DD-53D8A10B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A4728-207A-45BC-97C2-A75862BF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94E7-F931-4798-9246-47B12B6CEED8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AEC0-8C99-4671-9AD6-84DB49B8A033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Connecteur droit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Connecteur droit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Triangle isocè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25BE-EC28-4A6F-99A3-EB893B33F9A6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1F3E-15DF-41DA-9A74-44B6FC4F0AA3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887E-9E10-4CC4-BE1D-096877B72753}" type="datetime">
              <a:rPr b="0" lang="fr-FR" sz="1400" spc="-1" strike="noStrike">
                <a:solidFill>
                  <a:srgbClr val="dde9ec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e9ec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04A5-9A6F-46A8-A9E9-FEED2E5E4AF3}" type="slidenum">
              <a:rPr b="0" lang="fr-BE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nnecteur droit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Connecteur droit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Triangle isocè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Triangle isocè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4E9C-0C6D-463A-981B-B9239F7C2CC4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175B-F693-4BBB-B0B6-A8F901D0986E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onnecteur droit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Triangle isocè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60B3-6A7F-4C6B-9EA0-148659ED0F28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060F-2041-4847-A161-E40950362BB1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Connecteur droit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Connecteur droit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Triangle isocè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99DE-E634-4657-8528-17DF9E9D9869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0F54-59CD-4079-B2ED-2BD05F7304AD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Connecteur droit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Triangle isocè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A294-5D04-4F01-A03A-7C0238673178}" type="datetime">
              <a:rPr b="0" lang="fr-FR" sz="1400" spc="-1" strike="noStrike">
                <a:solidFill>
                  <a:srgbClr val="dde9ec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e9ec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D882-C87A-4B4B-A074-61838E480DFF}" type="slidenum">
              <a:rPr b="0" lang="fr-BE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Connecteur droit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Triangle isocè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Connecteur droit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3B48-9B6B-402D-94D2-37EBAA56D4D4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F209-3510-4770-A41E-ADA1BAF5F5E5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mailto:marseille2012@reseauprojection.or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360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4FA0-44D1-4BF3-BDBE-AAD6F96BBE36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3780000" y="836640"/>
            <a:ext cx="1728720" cy="140004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6"/>
          <p:cNvSpPr/>
          <p:nvPr/>
        </p:nvSpPr>
        <p:spPr>
          <a:xfrm>
            <a:off x="1187280" y="413064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La contribution des jeunes professionne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Espace réservé du contenu 2"/>
          <p:cNvSpPr/>
          <p:nvPr/>
        </p:nvSpPr>
        <p:spPr>
          <a:xfrm>
            <a:off x="1187280" y="2617920"/>
            <a:ext cx="705672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« D’un monde de bidonvilles à un monde de solutions 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1" descr=""/>
          <p:cNvPicPr/>
          <p:nvPr/>
        </p:nvPicPr>
        <p:blipFill>
          <a:blip r:embed="rId2"/>
          <a:stretch/>
        </p:blipFill>
        <p:spPr>
          <a:xfrm>
            <a:off x="7740720" y="1754280"/>
            <a:ext cx="961920" cy="1466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" descr=""/>
          <p:cNvPicPr/>
          <p:nvPr/>
        </p:nvPicPr>
        <p:blipFill>
          <a:blip r:embed="rId3"/>
          <a:stretch/>
        </p:blipFill>
        <p:spPr>
          <a:xfrm>
            <a:off x="684360" y="1897200"/>
            <a:ext cx="961920" cy="1466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4140360" y="4941720"/>
            <a:ext cx="936360" cy="1125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4133-954C-41AF-822D-8CF96DF0BA6A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Connecteur droit 13"/>
          <p:cNvSpPr/>
          <p:nvPr/>
        </p:nvSpPr>
        <p:spPr>
          <a:xfrm>
            <a:off x="1332000" y="2060640"/>
            <a:ext cx="720072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9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76500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12"/>
          <p:cNvSpPr/>
          <p:nvPr/>
        </p:nvSpPr>
        <p:spPr>
          <a:xfrm>
            <a:off x="647640" y="2060640"/>
            <a:ext cx="8496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7f7f7f"/>
                </a:solidFill>
                <a:latin typeface="Gill Sans MT"/>
              </a:rPr>
              <a:t>Une quarantaine de solutions collectées à ce jou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3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74" name="Espace réservé du contenu 2"/>
          <p:cNvSpPr/>
          <p:nvPr/>
        </p:nvSpPr>
        <p:spPr>
          <a:xfrm>
            <a:off x="1116000" y="692280"/>
            <a:ext cx="5688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116000" y="2565360"/>
          <a:ext cx="7272360" cy="3816360"/>
        </p:xfrm>
        <a:graphic>
          <a:graphicData uri="http://schemas.openxmlformats.org/drawingml/2006/table">
            <a:tbl>
              <a:tblPr/>
              <a:tblGrid>
                <a:gridCol w="206280"/>
                <a:gridCol w="4533840"/>
                <a:gridCol w="1105200"/>
                <a:gridCol w="1427040"/>
              </a:tblGrid>
              <a:tr h="168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L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695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ptation of technical standards for water supply networks in informal settl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kina F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ènagement des tal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aforce 5000 - Emergency water production sys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kist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g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cteria counting application for low-cost water monitoring k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izen Intitiative to Enhance Water Governance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glades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ty-Led Urban Environmental Sanitation 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age et calibrage des drai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inage des eaux pluvi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ing the Role of Water Vendors in the Sustainable and Safe Water Provisioning Serv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ge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nsion du réseau public de distribution d’eau potable, promotion des branchements particuliers et installation des bornes fontaines payantes communautai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/ 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tion à la construction, à l’utilisation et à l’entretien des latrines à doubles fosses sèches ventilé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approach in water supplies progra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/ education/ inst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al water and Sanitation strategies in Slum Are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ing drinking water access in peri-urban areas and implementation of a local water serv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éra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sion of Low Income Urban Community for Improved Water Supply Facili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i Lank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utionnel-Financiè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ed program for cholera’s eliminatio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R of Con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/ sant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 pratique de tarification de l'ea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-Financiè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ites D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C2B9-57C7-41E9-A4DD-7713C7545A96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Connecteur droit 13"/>
          <p:cNvSpPr/>
          <p:nvPr/>
        </p:nvSpPr>
        <p:spPr>
          <a:xfrm>
            <a:off x="1332000" y="1989000"/>
            <a:ext cx="720072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1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7020000" y="692280"/>
            <a:ext cx="1439640" cy="11667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83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4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85" name="Espace réservé du contenu 2"/>
          <p:cNvSpPr/>
          <p:nvPr/>
        </p:nvSpPr>
        <p:spPr>
          <a:xfrm>
            <a:off x="1116000" y="692280"/>
            <a:ext cx="5688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332000" y="2060640"/>
          <a:ext cx="6480000" cy="4321080"/>
        </p:xfrm>
        <a:graphic>
          <a:graphicData uri="http://schemas.openxmlformats.org/drawingml/2006/table">
            <a:tbl>
              <a:tblPr/>
              <a:tblGrid>
                <a:gridCol w="183960"/>
                <a:gridCol w="4040280"/>
                <a:gridCol w="984240"/>
                <a:gridCol w="1271520"/>
              </a:tblGrid>
              <a:tr h="144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L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rines à doubles fosses sèches ventilé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terplan design and institutional strenghtening for water supply and sanitation improvement in  peri-urban are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/ financier / In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7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e en place d’un dispositif de gestion pérenne des bornes fontaines payan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bile water payments in Urban Afr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r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/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stakeholders financing of the connection of informal settlements to basic waterserv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/ Edu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 channel diverting wastewater from Spring in slu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epoo bag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et mise à la disposition des ménages des récipients adaptés pour la conservation et manipulation de l’eau de boisson dans les log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ion of Rainwater in Coastal Urban in Bangladesh for Safe Water Solution in Light of Climate Change and Adapt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glades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-poor action in Medel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/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ing Pro Poor Water Services in Urban Areas through Multi Partnershi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ilippi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/ financi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ing the urban poor with ecological toilets through revolving loan fu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mbabwe, Tanza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-Financiè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 of water and sanitation services to the urban poor in Bhubaneswa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7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ching the poor- Slum networking in Ahmedab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um mapp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ép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-piped sew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 waste management for cleaner water down stre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an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p the persistence of waterborne diseases and the economic recove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/ sant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y for access to water and sanitation in the informal settlements : the delegated master operator mod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7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y for waste reduction, job creation and income generation in the slum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kina F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/ financier / In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ème communautaire semi-collectif d’assainiss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Implementation of Successful Social Programmes in the Provision of Water Servic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sex Uri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Group Network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le/ te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88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000B-82EA-4B21-93B0-45BCDA14643C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2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12"/>
          <p:cNvSpPr/>
          <p:nvPr/>
        </p:nvSpPr>
        <p:spPr>
          <a:xfrm>
            <a:off x="755640" y="2338560"/>
            <a:ext cx="799308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Conception générale de l’exposi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ur un espace de 200 m² d’exposition au sein du « Village des solutions »,  il est prévu une visite en 3 temps 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Gill Sans MT"/>
              </a:rPr>
              <a:t>Exposition du contexte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: visite classique avec panneaux d’inform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Gill Sans MT"/>
              </a:rPr>
              <a:t>Exposition des solutions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: immersion au sein d’habitats précaires et mise en situation des solu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Gill Sans MT"/>
              </a:rPr>
              <a:t>Espace de conférences et de débats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6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97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AutoShape 2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02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86DA-3168-4290-8D50-A7819EE78E1D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6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08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AutoShape 2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AutoShape 6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7898040" cy="42483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3193920" cy="35208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17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8225-55FB-42A8-A270-1307DF8BC43A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1" name="Picture 3" descr="C:\Users\Assoprojection JHH\Dropbox\Projection\Eléments graphiques\LOGO PROJ HD.png"/>
          <p:cNvPicPr/>
          <p:nvPr/>
        </p:nvPicPr>
        <p:blipFill>
          <a:blip r:embed="rId2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2"/>
          <p:cNvSpPr/>
          <p:nvPr/>
        </p:nvSpPr>
        <p:spPr>
          <a:xfrm>
            <a:off x="755640" y="2338560"/>
            <a:ext cx="60483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Zone 1 – Exposition du contex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Définition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Ampleur du phénomène dans le mon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Causes et formation des bidonvil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es lieux d’implantation et le fonci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a vie dans les bidonvil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’évolution du bidonville, acteurs et types d’interven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’enjeu de l’accès à l’eau et à l’assainissement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5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26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28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4444-328D-43DA-ABE4-F8E83B27AAD2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12"/>
          <p:cNvSpPr/>
          <p:nvPr/>
        </p:nvSpPr>
        <p:spPr>
          <a:xfrm>
            <a:off x="3708360" y="2338560"/>
            <a:ext cx="51116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Zone 2 – Exposition des solu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Une quinzaine de solutions exposées à l’intérieur et autour de la reproduction d’habitats informe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Supports visuels et démonstra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Principe de la réalité augmenté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Pictogrammes pour créer un fi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conducteu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6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37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8" name="Picture 1" descr=""/>
          <p:cNvPicPr/>
          <p:nvPr/>
        </p:nvPicPr>
        <p:blipFill>
          <a:blip r:embed="rId4"/>
          <a:stretch/>
        </p:blipFill>
        <p:spPr>
          <a:xfrm>
            <a:off x="250920" y="2349360"/>
            <a:ext cx="3362400" cy="381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5651640" y="2565360"/>
            <a:ext cx="3492360" cy="38070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41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B566-78DE-4E54-BD35-30E70384B1B0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5" name="Picture 3" descr="C:\Users\Assoprojection JHH\Dropbox\Projection\Eléments graphiques\LOGO PROJ HD.png"/>
          <p:cNvPicPr/>
          <p:nvPr/>
        </p:nvPicPr>
        <p:blipFill>
          <a:blip r:embed="rId2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2"/>
          <p:cNvSpPr/>
          <p:nvPr/>
        </p:nvSpPr>
        <p:spPr>
          <a:xfrm>
            <a:off x="395280" y="2421000"/>
            <a:ext cx="604836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Zone 3 – Espace de déba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Un programme de conférences tout a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ong de la semaine sur les questions d’accès à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’eau et à l’assainissement dans les bidonvil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Des moments d’échanges informe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’intervention de toutes les parti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prenant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(ex. Low level panel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9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50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52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70B8-EAB0-4698-8C67-5A66B60249E5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6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12"/>
          <p:cNvSpPr/>
          <p:nvPr/>
        </p:nvSpPr>
        <p:spPr>
          <a:xfrm>
            <a:off x="755640" y="2395440"/>
            <a:ext cx="813744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Brainstorm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Trois groupes pour trois thèmes de réflex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es grands messages à faire pass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Une typologie des solu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Des sujets et de formats originaux pour les débat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Trois temp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Chacun remplit la boite à idées de son group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Dépouillement et débats au sein de chaque group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Restitution en session pléniè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0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61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1476360" y="2398680"/>
            <a:ext cx="6191280" cy="445932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64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5F89-E066-477C-8DFD-52C76B5666A3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8" name="Picture 3" descr="C:\Users\Assoprojection JHH\Dropbox\Projection\Eléments graphiques\LOGO PROJ HD.png"/>
          <p:cNvPicPr/>
          <p:nvPr/>
        </p:nvPicPr>
        <p:blipFill>
          <a:blip r:embed="rId2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12"/>
          <p:cNvSpPr/>
          <p:nvPr/>
        </p:nvSpPr>
        <p:spPr>
          <a:xfrm>
            <a:off x="1116000" y="23385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2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73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370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CD90-9636-4B4E-B3DB-9B76795FA65A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7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378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755640" y="2398680"/>
            <a:ext cx="83883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Gill Sans MT"/>
              </a:rPr>
              <a:t>Le Forum Mondial de l’Eau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Le plus grand évènement  international du secteu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Tous les 3 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25 000 participants : Professionnels, décideurs et société civi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ill Sans MT"/>
              </a:rPr>
              <a:t>Un constat : peu de visibilité pour les jeunes professionn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381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D47C-5AC6-412B-BE5D-4F04C481B779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2"/>
          <p:cNvSpPr/>
          <p:nvPr/>
        </p:nvSpPr>
        <p:spPr>
          <a:xfrm>
            <a:off x="2700360" y="2338560"/>
            <a:ext cx="60483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ill Sans MT"/>
              </a:rPr>
              <a:t>Qu’est-ce qui change au 6</a:t>
            </a:r>
            <a:r>
              <a:rPr b="1" lang="fr-FR" sz="32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1" lang="fr-FR" sz="3200" spc="-1" strike="noStrike">
                <a:solidFill>
                  <a:srgbClr val="000000"/>
                </a:solidFill>
                <a:latin typeface="Gill Sans MT"/>
              </a:rPr>
              <a:t> Forum Mondial de l’Ea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12 au 17 mars à Marseil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« Le temps des solutions » =&gt; engag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contribution préparée et visible des jeunes professionn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390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324000" y="3141720"/>
            <a:ext cx="203508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393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875B-B383-4D79-A17D-EF86B485842A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7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468360" y="2378160"/>
            <a:ext cx="86756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e offre spécifique J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pour participer au foru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 droit d’entrée 2 fois moins cher que pour les seni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250 euros (OCDE) ou 150 euros (hors OCD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 accompagnement personnalisé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selon votre profil et vos attent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1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02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04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2929-5D89-45C6-A71E-6323148DDBB7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8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2"/>
          <p:cNvSpPr/>
          <p:nvPr/>
        </p:nvSpPr>
        <p:spPr>
          <a:xfrm>
            <a:off x="324000" y="2421000"/>
            <a:ext cx="86756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e offre spécifique J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pour rencontrer et échanger en dehors du foru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Auberge des jeunes professionn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Plus de 100 places à tarifs négociés à 15 mn à pieds du foru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es animations quotidiennes, pour échanger, rencontrer………… ……et se détendr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ouvert à to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13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15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82A8-2B0B-4F7A-B949-A2BFC2DE4635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9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2"/>
          <p:cNvSpPr/>
          <p:nvPr/>
        </p:nvSpPr>
        <p:spPr>
          <a:xfrm>
            <a:off x="468360" y="2378160"/>
            <a:ext cx="8675640" cy="36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e offre spécifique J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pour leur donner de la visibili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evenez rédacteur de la newsletter officielle du For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Entre 25 et 40 jeunes professionnels du monde enti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Transport et séjour intégralement pris en char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ill Sans MT"/>
              </a:rPr>
              <a:t>Réponse avant le 22 janvier (CV+présentation en anglais) à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b292ca"/>
                </a:solidFill>
                <a:uFillTx/>
                <a:latin typeface="Gill Sans MT"/>
                <a:hlinkClick r:id="rId3"/>
              </a:rPr>
              <a:t>marseille2012@reseauprojection.or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6a5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3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24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26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C14C-7396-45FE-B908-04224BD07063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2"/>
          <p:cNvSpPr/>
          <p:nvPr/>
        </p:nvSpPr>
        <p:spPr>
          <a:xfrm>
            <a:off x="468360" y="237816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e offre spécifique J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pour contribuer aux débats</a:t>
            </a:r>
            <a:r>
              <a:rPr b="0" lang="fr-FR" sz="2400" spc="-1" strike="noStrike">
                <a:solidFill>
                  <a:srgbClr val="7f7f7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3"/>
          <a:srcRect l="0" t="2520" r="0" b="0"/>
          <a:stretch/>
        </p:blipFill>
        <p:spPr>
          <a:xfrm>
            <a:off x="611280" y="3429000"/>
            <a:ext cx="4357440" cy="27874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"/>
          <p:cNvPicPr/>
          <p:nvPr/>
        </p:nvPicPr>
        <p:blipFill>
          <a:blip r:embed="rId4"/>
          <a:stretch/>
        </p:blipFill>
        <p:spPr>
          <a:xfrm>
            <a:off x="6227640" y="4005360"/>
            <a:ext cx="2305080" cy="184140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15"/>
          <p:cNvSpPr/>
          <p:nvPr/>
        </p:nvSpPr>
        <p:spPr>
          <a:xfrm>
            <a:off x="2987640" y="3500280"/>
            <a:ext cx="86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ill Sans MT"/>
              </a:rPr>
              <a:t>Focus Bidonvil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Straight Connector 17"/>
          <p:cNvSpPr/>
          <p:nvPr/>
        </p:nvSpPr>
        <p:spPr>
          <a:xfrm>
            <a:off x="2843280" y="4941720"/>
            <a:ext cx="324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Oval 18"/>
          <p:cNvSpPr/>
          <p:nvPr/>
        </p:nvSpPr>
        <p:spPr>
          <a:xfrm>
            <a:off x="2627280" y="4869000"/>
            <a:ext cx="21600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Rounded Rectangle 19"/>
          <p:cNvSpPr/>
          <p:nvPr/>
        </p:nvSpPr>
        <p:spPr>
          <a:xfrm>
            <a:off x="6084720" y="3429000"/>
            <a:ext cx="2590920" cy="280836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2808360"/>
              <a:gd name="textAreaBottom" fmla="*/ 2682000 h 2808360"/>
            </a:gdLst>
            <a:ahLst/>
            <a:rect l="textAreaLeft" t="textAreaTop" r="textAreaRight" b="textAreaBottom"/>
            <a:pathLst>
              <a:path w="21600" h="23413">
                <a:moveTo>
                  <a:pt x="3600" y="0"/>
                </a:moveTo>
                <a:arcTo wR="3600" hR="3600" stAng="16200000" swAng="-5400000"/>
                <a:lnTo>
                  <a:pt x="0" y="19813"/>
                </a:lnTo>
                <a:arcTo wR="3600" hR="3600" stAng="10800000" swAng="-5400000"/>
                <a:lnTo>
                  <a:pt x="18000" y="234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1" name="Picture 2" descr="C:\Users\Assoprojection JHH\Desktop\projection perso\LOGO FME grand.jpg"/>
          <p:cNvPicPr/>
          <p:nvPr/>
        </p:nvPicPr>
        <p:blipFill>
          <a:blip r:embed="rId5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43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6E64-B510-4724-84F3-3F7591285FF4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7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2"/>
          <p:cNvSpPr/>
          <p:nvPr/>
        </p:nvSpPr>
        <p:spPr>
          <a:xfrm>
            <a:off x="755640" y="2338560"/>
            <a:ext cx="79930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Le Proj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ill Sans MT"/>
              </a:rPr>
              <a:t>Objectif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Porter le sujet des quartiers précaires au cœur du 6</a:t>
            </a:r>
            <a:r>
              <a:rPr b="0" lang="fr-FR" sz="22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FM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ématique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: </a:t>
            </a:r>
            <a:r>
              <a:rPr b="0" i="1" lang="fr-FR" sz="2200" spc="-1" strike="noStrike">
                <a:solidFill>
                  <a:srgbClr val="000000"/>
                </a:solidFill>
                <a:latin typeface="Gill Sans MT"/>
              </a:rPr>
              <a:t>Avant que le bidonville ne devienne une référence urbaine, comment l’accès aux services de base peut-il être un facteur levier de développement local de ces quartiers, pour une intégration à terme dans l’espace urbain en tant que quartier salubre ?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1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52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1398-6405-48C3-ACCA-D4D48B078714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8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2"/>
          <p:cNvSpPr/>
          <p:nvPr/>
        </p:nvSpPr>
        <p:spPr>
          <a:xfrm>
            <a:off x="395280" y="2349360"/>
            <a:ext cx="8532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 travail collaborati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Un groupe de travail de JP pertinents sur la question des quartiers précai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Un comité de pilotage et des partenariats techniques (AFD, GRET, UN-Habit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Des ateliers JP mis en place dans le cadre des Forum Nationaux de l’Eau et de l’Assainissement d’Afrique de l’Ouest pour alimenter le fo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Un appel international à solutions pour l’eau et à l’assainissement dans les bidonvilles pour encourager la participation de to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63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8:12:40Z</dcterms:created>
  <dc:creator>Projection Défis Sud</dc:creator>
  <dc:description/>
  <dc:language>en-US</dc:language>
  <cp:lastModifiedBy>Projection</cp:lastModifiedBy>
  <dcterms:modified xsi:type="dcterms:W3CDTF">2012-02-02T18:24:51Z</dcterms:modified>
  <cp:revision>188</cp:revision>
  <dc:subject/>
  <dc:title>Diapositive 1</dc:title>
</cp:coreProperties>
</file>